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57D-C2C3-4392-A5C3-929438F5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A76D-D490-41CA-B326-21D3D749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E34-A681-4290-89FB-5EF3F014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4720-32BD-4D77-989A-89784250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32AA-C2A1-46D5-AAF4-A14C3FE1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573E-45D4-4AEF-9CEB-E7B41ADA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2EFC-15F7-4EA1-95F5-75405168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C5B8-3FC4-4E06-AA57-BCBEC04D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6F69-4078-4B6C-85FE-098E6F96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8E28-C644-4614-B3E1-CDE9FC9B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E20D-B676-4925-85AF-010F13B9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215-823C-44AB-94A4-19EFAD40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156F-24D7-4B9C-BE31-5D47C81B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F144-A9D1-4711-B797-1D5C7DFC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D4EA-3D88-40EE-829C-2338D16E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076D-8050-456E-AA89-5FE630FF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1F64-BD2E-4B4F-A70B-CF588ECF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AA89-313A-46FD-83AB-35ECF8AC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723-02E0-4AF8-9017-0721DA6F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02A2-7BB5-4E9D-805E-723A4324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8E3-743C-48A5-880B-C67B11E3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B48-D571-4D6A-BEC0-9350F3E0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CD8-BC0A-4723-8913-82FD6A8B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5CA7-023A-4A44-9659-86327B0F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00BB-D15E-41AD-9F74-5AD541C364D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A195-A9CF-4A44-890B-D763F58DBA3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google.com/imgres?imgurl=http://www.iptrademarkattorney.com/trademark-attorney-mexico-futbol-soccer-club-america.bmp&amp;imgrefurl=http://www.iptrademarkattorney.com/trademark_litigation/index.html%3Fpage%3D8&amp;usg=__zRLZc3eGLszgV4KqflSoOVfNCDc=&amp;h=300&amp;w=300&amp;sz=352&amp;hl=en&amp;start=1&amp;itbs=1&amp;tbnid=FFENYCorGhsoAM:&amp;tbnh=116&amp;tbnw=116&amp;prev=/images%3Fq%3Damerica%2Bsoccer%2Bteam%2Bmexico%26hl%3Den%26safe%3Dactive%26gbv%3D2%26tbs%3Disch: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m/imgres?imgurl=http://muddydogcoffee.com/coffee/images/mexico-flag.jpg&amp;imgrefurl=http://www.muddydogcoffee.com/coffee/product_info.php%3Fproducts_id%3D221%26osCsid%3Dygoqvyfdhtp&amp;usg=__KC-lbpt3CwKza5GqxYAzmWBsEbQ=&amp;h=544&amp;w=771&amp;sz=28&amp;hl=en&amp;start=35&amp;itbs=1&amp;tbnid=A2TtpBAcx6o4dM:&amp;tbnh=100&amp;tbnw=142&amp;prev=/images%3Fq%3Dmexico%26start%3D20%26hl%3Den%26safe%3Dactive%26sa%3DN%26gbv%3D2%26ndsp%3D20%26tbs%3Disch:1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imgres?imgurl=http://www.inhabitat.com/wp-content/uploads/hmorganic_springwomens1.jpg&amp;imgrefurl=http://1st-clothing.com/spring-clothing/&amp;usg=__wiw74tPbwAt5F31J0h0m5s_nAGg=&amp;h=400&amp;w=537&amp;sz=59&amp;hl=en&amp;start=9&amp;itbs=1&amp;tbnid=IxJD9UpnS9BgUM:&amp;tbnh=98&amp;tbnw=132&amp;prev=/images%3Fq%3Dspring%2Bclothes%26hl%3Den%26safe%3Dactive%26gbv%3D2%26tbs%3Disch:1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579456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Edwardian Script ITC"/>
              </a:rPr>
              <a:t>La Clases De  Espanol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752480" y="54100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Edwardian Script ITC"/>
              </a:rPr>
              <a:t>By: Delmaja,and Lesli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1752480" y="1371600"/>
            <a:ext cx="5715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3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Edwardian Script ITC"/>
              </a:rPr>
              <a:t>Los Colores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685440" y="1980720"/>
            <a:ext cx="3814920" cy="19861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685440" y="4106520"/>
            <a:ext cx="3814920" cy="1989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zu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marill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er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oj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lan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1600200"/>
            <a:ext cx="4038840" cy="44956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8320" y="4038480"/>
            <a:ext cx="4038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Edwardian Script ITC"/>
              </a:rPr>
              <a:t>Las Estaciones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14920" cy="41148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Edwardian Script ITC"/>
              </a:rPr>
              <a:t>Otono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Edwardian Script ITC"/>
              </a:rPr>
              <a:t>El invierno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Edwardian Script ITC"/>
              </a:rPr>
              <a:t>La primavera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Edwardian Script ITC"/>
              </a:rPr>
              <a:t>El verano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9625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Edwardian Script ITC"/>
              </a:rPr>
              <a:t>La Ropa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14920" cy="41148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l pantal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La camiset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La chaqut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dwardian Script IT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Edwardian Script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8:34:02Z</dcterms:created>
  <dc:creator>WSFCS Workstation</dc:creator>
  <dc:description/>
  <dc:language>en-US</dc:language>
  <cp:lastModifiedBy>WSFCS Workstation</cp:lastModifiedBy>
  <dcterms:modified xsi:type="dcterms:W3CDTF">2010-04-30T18:58:34Z</dcterms:modified>
  <cp:revision>4</cp:revision>
  <dc:subject/>
  <dc:title>La Clases De  Espanol</dc:title>
</cp:coreProperties>
</file>